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951280" cy="496800"/>
          </a:xfrm>
          <a:prstGeom prst="rect">
            <a:avLst/>
          </a:prstGeom>
          <a:noFill/>
          <a:ln w="0">
            <a:noFill/>
          </a:ln>
        </p:spPr>
        <p:txBody>
          <a:bodyPr lIns="88200" rIns="88200" tIns="44280" bIns="4428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54160" y="0"/>
            <a:ext cx="2950920" cy="49680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ja-JP" sz="1100" spc="-1" strike="noStrike">
                <a:solidFill>
                  <a:srgbClr val="000000"/>
                </a:solidFill>
                <a:latin typeface="Calibri"/>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3A4F66-1164-4CF5-997F-AB8E123B420D}" type="datetime">
              <a:rPr b="0" lang="ja-JP" sz="1100" spc="-1" strike="noStrike">
                <a:solidFill>
                  <a:srgbClr val="000000"/>
                </a:solidFill>
                <a:latin typeface="Calibri"/>
              </a:rPr>
              <a:t>26/07/30</a:t>
            </a:fld>
            <a:endParaRPr b="0" lang="en-US" sz="1100" spc="-1" strike="noStrike">
              <a:solidFill>
                <a:srgbClr val="000000"/>
              </a:solidFill>
              <a:latin typeface="Times New Roman"/>
            </a:endParaRPr>
          </a:p>
        </p:txBody>
      </p:sp>
      <p:sp>
        <p:nvSpPr>
          <p:cNvPr id="495" name="PlaceHolder 3"/>
          <p:cNvSpPr>
            <a:spLocks noGrp="1"/>
          </p:cNvSpPr>
          <p:nvPr>
            <p:ph type="sldImg"/>
          </p:nvPr>
        </p:nvSpPr>
        <p:spPr>
          <a:xfrm>
            <a:off x="917280" y="744120"/>
            <a:ext cx="4973400" cy="3729240"/>
          </a:xfrm>
          <a:prstGeom prst="rect">
            <a:avLst/>
          </a:prstGeom>
          <a:no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0760" y="4721400"/>
            <a:ext cx="5445000" cy="4473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42440"/>
            <a:ext cx="2951280" cy="495360"/>
          </a:xfrm>
          <a:prstGeom prst="rect">
            <a:avLst/>
          </a:prstGeom>
          <a:noFill/>
          <a:ln w="0">
            <a:noFill/>
          </a:ln>
        </p:spPr>
        <p:txBody>
          <a:bodyPr lIns="88200" rIns="88200" tIns="44280" bIns="4428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54160" y="9442440"/>
            <a:ext cx="2950920" cy="49536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ja-JP" sz="1100" spc="-1" strike="noStrike">
                <a:solidFill>
                  <a:srgbClr val="000000"/>
                </a:solidFill>
                <a:latin typeface="Calibri"/>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C29380-6BF2-4028-BED6-39ECB8A7EE84}" type="slidenum">
              <a:rPr b="0" lang="ja-JP" sz="1100" spc="-1" strike="noStrike">
                <a:solidFill>
                  <a:srgbClr val="000000"/>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17640" y="744480"/>
            <a:ext cx="4973400" cy="3729240"/>
          </a:xfrm>
          <a:prstGeom prst="rect">
            <a:avLst/>
          </a:prstGeom>
          <a:ln w="0">
            <a:noFill/>
          </a:ln>
        </p:spPr>
      </p:sp>
      <p:sp>
        <p:nvSpPr>
          <p:cNvPr id="534"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スライド番号プレースホルダー 3"/>
          <p:cNvSpPr/>
          <p:nvPr/>
        </p:nvSpPr>
        <p:spPr>
          <a:xfrm>
            <a:off x="3854520" y="9442440"/>
            <a:ext cx="2950920" cy="495360"/>
          </a:xfrm>
          <a:prstGeom prst="rect">
            <a:avLst/>
          </a:prstGeom>
          <a:noFill/>
          <a:ln w="0">
            <a:noFill/>
          </a:ln>
        </p:spPr>
        <p:style>
          <a:lnRef idx="0"/>
          <a:fillRef idx="0"/>
          <a:effectRef idx="0"/>
          <a:fontRef idx="minor"/>
        </p:style>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A01430-1D95-4F29-997F-ADA95095A277}" type="slidenum">
              <a:rPr b="0" lang="ja-JP" sz="1100" spc="-1" strike="noStrike">
                <a:solidFill>
                  <a:srgbClr val="000000"/>
                </a:solidFill>
                <a:latin typeface="Calibri"/>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7640" y="744480"/>
            <a:ext cx="4973400" cy="3729240"/>
          </a:xfrm>
          <a:prstGeom prst="rect">
            <a:avLst/>
          </a:prstGeom>
          <a:ln w="0">
            <a:noFill/>
          </a:ln>
        </p:spPr>
      </p:sp>
      <p:sp>
        <p:nvSpPr>
          <p:cNvPr id="537"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スライド番号プレースホルダー 3"/>
          <p:cNvSpPr/>
          <p:nvPr/>
        </p:nvSpPr>
        <p:spPr>
          <a:xfrm>
            <a:off x="3854520" y="9442440"/>
            <a:ext cx="2950920" cy="495360"/>
          </a:xfrm>
          <a:prstGeom prst="rect">
            <a:avLst/>
          </a:prstGeom>
          <a:noFill/>
          <a:ln w="0">
            <a:noFill/>
          </a:ln>
        </p:spPr>
        <p:style>
          <a:lnRef idx="0"/>
          <a:fillRef idx="0"/>
          <a:effectRef idx="0"/>
          <a:fontRef idx="minor"/>
        </p:style>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110794-9BA0-4A8C-A684-6E560A126711}" type="slidenum">
              <a:rPr b="0" lang="ja-JP" sz="1100" spc="-1" strike="noStrike">
                <a:solidFill>
                  <a:srgbClr val="000000"/>
                </a:solidFill>
                <a:latin typeface="Calibri"/>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F619B-840B-4CDD-AE27-6F95AA8D1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89A87-7C94-47C7-B13A-8AD8B2A1D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A3524C-D3B0-481C-8648-D91E3A515F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ED3F78-7F88-46F2-9396-45B83F7B86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50A855-CAB8-4243-BDE1-7B0D5C578F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66D2A9-6B4E-4470-953E-2B1D4BE8BD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52FFFA-38F8-4A53-BAAB-BF970C8289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221299-05D0-47CA-8CA3-AFE42215D8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E08125-FBB6-4D6E-BDDB-AA4D38C62B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F5FDD0-37E3-4D0D-9E82-D5B46C9AE5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A16996-80C2-40C7-B3DA-23188D08DC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F5DAD50-721A-4C1C-A4F8-B7B3FA03321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80A0D-687A-4CFB-ACD0-BFFCBDEAB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B42D60-0766-42E9-A390-D89CFC8C3D6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015D72-7704-46E5-BF37-4E33F9BAF6C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C2CFCF-2AA0-4C93-9F7D-1B5FF07628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5560C9-C589-4A73-91DD-E57B310BD9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5F66C8-F962-4A3C-9FEE-5B0E547DA5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D44B24-3CA0-476A-AED1-1A250F1C99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1E9456-A6C5-456E-815C-0BE3D0D3A5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E705F6-029E-456D-87F8-BFD3A446C7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534045-1789-493F-AAB4-BD9271F8D3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2B80F16-FF12-4DF5-B494-E685E94A77E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87D57-896A-420F-BCF2-2D80994DC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40C31EF-584B-4868-8019-240B0A17A09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C2C6983-BBB3-423D-A15D-019E189C8DC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32AD9E-2AD3-490B-BB33-5BB0154AAF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5CFE05-4A82-4C7F-88B1-597A484B3E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224B8C-D613-4FAE-AD57-6722829BFD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A56CCA-A2FC-4CF3-BAB8-0E942777BE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426557-1E64-49E2-B769-74EBFD6CA2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9454CC-0331-4B9A-BAFF-4C045FDC77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0BB95C-296A-429C-A12B-03D4C640E6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3A5BB1-985F-4C10-92E6-A5F8797F98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33F859-4BE7-4651-9A89-BA4F1E2ED2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D97871-E7FF-4BAC-9280-70C856BC9B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C3120FD-9C84-49B7-AB9B-70316F0B718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28FC20A-6BDF-4C67-8E22-D67A36FE416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10D1825-0936-4A5E-B8D9-A3B7D05D6CD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0F1A44-1D06-468B-B393-8E00F38042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C12D54-DDAF-4D76-8012-1E00398E73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89C354-74D1-4D4F-B0B0-D8975EE4BB7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9DD217-459F-469A-B59F-8BC07DEDAA8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4441F1A-3CFC-41AF-A2FF-3A7B6CA40B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6C03A9-834B-403B-8CAA-340F730D3B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6013E-D0EF-4CD0-B3F3-D939761A5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C7DB06-1966-460D-995B-FDD79D4C48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979B3C-98CA-468C-8041-AC29F1E8DE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7227A5-D8E9-4BD3-B125-2D0D4428E34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4E9CE8D-76B2-4404-A433-1AE2FB12F9B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360A408-BE38-4786-808D-F9BDDD65B56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F9BA8-C12C-4BE5-97FA-C46D77D49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9C1C3-83C9-4F2C-91B1-61D5BD640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FEE29-F359-43D1-8456-F0309E669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E9B84-81EB-4C5D-8A59-C3F0C8442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A0D77-2840-4FB9-99E8-18DCDD666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0B450-B755-4375-984A-EB37F5A51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F45E5-68CE-4279-A9AD-70F8A59CD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6E399-5695-43BA-BA7E-B322395C6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8D7B7-28D1-4A60-89B6-214CBDA98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F18D2-1E18-481B-BD46-25AB4CBFD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E548AF-AC00-4FCF-BCE0-232A06BE7B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69ED05-5827-4D49-B0B4-6B9E40AC48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5F89F1-C1E8-4564-84E3-89D684FAD9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E0BBAD-518D-466F-AA23-408014F201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DC61BC-FE79-409F-99E3-DFC879666A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3116E2-32A8-413A-9912-3755D14EC4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0CFBD-4F72-4859-A1E3-1F2194A60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66F134-3AAA-4A7C-85C8-4A0F9326D6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2F7A86-36AC-4D4B-92B1-A02B91ED27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9064F9-91CA-44BC-8DD1-9C56259454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066E22-FE41-47FC-BE9F-601908EB21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227FD4-A478-4F88-8D5E-D4F3009C56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6E0BCF-7351-40C1-A14D-2C69B58F67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1A1313-5AFA-4DF3-B0BD-FF2775B7CB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F21116-719D-48CD-8981-ECBEEB8B3C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0FA280-1B01-430A-B9A9-B50DDE665A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CCC8B4-87BD-43EE-A7D8-0487F1C3F6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B31F1-BE9D-48DE-A077-8C616E8EC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7C79D7-CB24-498E-971F-BBBC09462E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FFC544-7D28-4AB2-B7A1-F8494C8822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6F56C9-E65C-4226-80F3-4D55EE495A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AA38EC-AEC9-4306-B6CD-605B91D36F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8F5F27-E049-48DC-A064-2BB2AA676F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10B207-DEDB-4B3F-80BF-5DD7039059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6EDD65-38B8-4E7A-AB1D-0FD0F8308F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F2570C-9117-458C-880E-A45BAB0275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C0FC74-29E6-4380-8546-7541B5BEAA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0C1C69-BD31-45DF-87E8-FF13CCBDA4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1B67E-7FAE-447E-9AAC-D26F53E42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0E7BDC-3212-4C85-87D2-13F0F9DAAA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719874-A388-4BE5-94A7-1A6FD4075A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119047-BE68-4990-916A-7B4FAE75C1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CA1344-F9DA-431C-974A-1229DED3E1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8A5103-385D-410F-BB0B-88C11298D8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114701-3FB3-4949-96DB-D4891A4D66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1682C6-EEE1-4E66-BE0C-C72C3F1E7E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DA399C-14A5-46BD-B829-F9ECD85801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0C9AA0-E8E5-4A26-94A9-CFCEC0CB8C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A79646-AB7C-4FC0-89E9-68C14B1492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BC978-7F16-450C-A0E4-652563EE7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98D27B-05F6-4276-85F4-F0C72A835E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C8D69D-D238-4804-A598-03BE99D4A4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F59519-438D-4E50-94D0-294122B5B3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DAA0B3-95D9-4D3B-ADA5-AA08F2670C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6C3FED-C1B2-42AA-8AC3-F9321AC5BE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CF25D1-6B89-41F4-80EE-F73EB55EBB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545E58-11DD-4C58-82AD-6DA01B1428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DBE397-4885-4C80-B776-E09FABAB43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555AF4-5094-4036-AD78-6BDA303427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7DBB7C-1E0E-4C9F-9B73-5B20DF6338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CF67B-0E92-426E-84C5-74522E871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18738B-DE93-4292-8CC6-E64925211A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C126AC-BF73-45E8-9B47-997637E656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0DA018-4B3E-4658-866A-489A7FC5F9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F2D58D-433F-4F61-9CE2-2DC4BEA544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87FA14-07DD-43E4-9806-CD7295B69F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3A0571-AB83-4034-88FB-EE12CD434A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FEB694-342F-42D3-883F-42D6BA504B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F53D06-8A8F-478C-9358-75C29860E3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3D0C28-2BFC-4784-B65F-457CFBB16D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0033E6-F333-42D4-8278-5A0F489419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0A9A4-F2B1-4A53-8875-65A2E582A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9344FC-CE3A-4F14-933C-114ECB09F2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CBCBE3-0B6A-4136-AA3A-B270302B56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F12D89-4C45-48FB-B98F-C5DAF0C91E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568778-9BE7-4E7D-9EF1-5E0EFD3AC4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F9D172-6450-4BD2-88BD-4F0809FE25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9D716A-ABD4-4652-8DE3-E078666CA6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9CB621-F94E-4893-B321-5F412DD7B0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228C93-A140-4CE2-B20D-36143DBAE8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46F8CC-1806-47C7-A4EF-71BDDC5430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B07610-3D31-4F89-B92D-26FECEF3E5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5B250-6454-4902-BC92-F5EA9E57E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BB2E1D-E869-401E-A4EF-602633ABE9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DC128D-5221-4425-97EB-1A0E72BCF6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D6F724-CE72-4402-B919-751B196A3B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F57C6E-9E6B-43F1-AED6-A6D927F126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F83E85-BF76-4F5B-BD58-6D2310BF97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8570A9-7F5A-44F6-B78E-B14F3C3EF2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99C7CC-FF23-46F7-BBAD-1564DDDB21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ECE774-7469-4764-8446-BA387E5EF4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C94E15-CAE1-48EE-943A-FDCF12CBE2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89D823-27C6-41A6-82AE-4F9AE9BF8E2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3E955-7D44-4743-96B9-32A2A7022FC0}" type="datetime">
              <a:rPr b="0" lang="ja-JP" sz="1200" spc="-1" strike="noStrike">
                <a:solidFill>
                  <a:srgbClr val="898989"/>
                </a:solidFill>
                <a:latin typeface="Calibri"/>
              </a:rPr>
              <a:t>26/07/30</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80373-C205-4B98-A2D4-3D13B05F1A81}"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5AE4-B853-4CDA-A9B9-DF2363B9E0E4}"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2313-84FB-4AD3-AD9C-5D1324F32F74}"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D528A-8B0C-4D7C-8235-9B3D6F38B1A1}"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9E8D0-7708-446D-BCC1-4570BB86B205}"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52B5-4B45-4C5E-B190-9D5F52775D30}"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A4E61-E460-4E66-955D-813FC1C0FA8B}"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40B3C-D8A1-4F81-995E-A4CDCD373B91}"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D9C76-731D-4418-B273-3611D84FCD12}"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FAF0-73ED-415F-93DE-168A51629E0A}"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28D3F-D377-499A-A47B-0EDB192B700E}"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1BA2E-D89B-48CE-9D71-C49AC5FC33DF}"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84E1-87C6-4F94-98EE-031E979D868D}"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65AC-4494-4C26-8499-9B6BB661F04B}"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7C818-573D-403D-A93A-E44878F99296}"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23012-6585-4B6B-8EEA-62EE8337371A}"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AF830-698E-4A32-8011-F2A2A8BE34A6}"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DFE2-B354-4344-BEE4-A3943AE8E508}"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6253D-BA31-4606-B0E6-CC3573FE4DAD}"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005D9-7F86-4EE1-83FA-E4C7EAC33E3D}"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7024320" y="65246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712F1-57F0-4FB0-95A9-30105539B63F}"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0D20-5D79-478B-8027-B3EB237FFDE9}"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008F1-9EFE-46A1-8F16-C5A1D53C6CF4}"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9" name=""/>
          <p:cNvGraphicFramePr/>
          <p:nvPr/>
        </p:nvGraphicFramePr>
        <p:xfrm>
          <a:off x="58680" y="1182600"/>
          <a:ext cx="8977320" cy="5631120"/>
        </p:xfrm>
        <a:graphic>
          <a:graphicData uri="http://schemas.openxmlformats.org/drawingml/2006/table">
            <a:tbl>
              <a:tblPr/>
              <a:tblGrid>
                <a:gridCol w="696960"/>
                <a:gridCol w="1655640"/>
                <a:gridCol w="2484720"/>
                <a:gridCol w="2484360"/>
                <a:gridCol w="1655640"/>
              </a:tblGrid>
              <a:tr h="878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事業</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分野</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課題</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交付対象事業年度</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a:t>
                      </a:r>
                      <a:r>
                        <a:rPr b="1" lang="ja-JP" sz="1400" spc="-1" strike="noStrike">
                          <a:solidFill>
                            <a:srgbClr val="ffffff"/>
                          </a:solidFill>
                          <a:latin typeface="Meiryo UI"/>
                          <a:ea typeface="Meiryo UI"/>
                        </a:rPr>
                        <a:t>年目ー○年目</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目標</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r>
              <a:tr h="1584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1584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r>
              <a:tr h="1584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bl>
          </a:graphicData>
        </a:graphic>
      </p:graphicFrame>
      <p:sp>
        <p:nvSpPr>
          <p:cNvPr id="500" name="テキスト ボックス 1"/>
          <p:cNvSpPr/>
          <p:nvPr/>
        </p:nvSpPr>
        <p:spPr>
          <a:xfrm>
            <a:off x="58680" y="633240"/>
            <a:ext cx="901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集落ネットワーク圏活性化プラン</a:t>
            </a:r>
            <a:endParaRPr b="0" lang="en-US" sz="2400" spc="-1" strike="noStrike">
              <a:solidFill>
                <a:srgbClr val="000000"/>
              </a:solidFill>
              <a:latin typeface="Arial"/>
            </a:endParaRPr>
          </a:p>
        </p:txBody>
      </p:sp>
      <p:sp>
        <p:nvSpPr>
          <p:cNvPr id="501" name="直線コネクタ 3"/>
          <p:cNvSpPr/>
          <p:nvPr/>
        </p:nvSpPr>
        <p:spPr>
          <a:xfrm>
            <a:off x="-47520" y="1101600"/>
            <a:ext cx="9205920" cy="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Rectangle 2"/>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角丸四角形 103"/>
          <p:cNvSpPr/>
          <p:nvPr/>
        </p:nvSpPr>
        <p:spPr>
          <a:xfrm>
            <a:off x="58680" y="146160"/>
            <a:ext cx="9018720" cy="4460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Meiryo UI"/>
                <a:ea typeface="Meiryo UI"/>
              </a:rPr>
              <a:t>　これはあくまでも「活性化プラン」の一例（イメージ）です。地域運営組織等において、地域の実情を踏まえて創意工夫を凝らして総合的にご検討ください。</a:t>
            </a:r>
            <a:endParaRPr b="0" lang="en-US" sz="1400" spc="-1" strike="noStrike">
              <a:solidFill>
                <a:srgbClr val="000000"/>
              </a:solidFill>
              <a:latin typeface="Arial"/>
            </a:endParaRPr>
          </a:p>
        </p:txBody>
      </p:sp>
      <p:sp>
        <p:nvSpPr>
          <p:cNvPr id="504" name="直線コネクタ 13"/>
          <p:cNvSpPr/>
          <p:nvPr/>
        </p:nvSpPr>
        <p:spPr>
          <a:xfrm>
            <a:off x="0" y="622440"/>
            <a:ext cx="914400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テキスト ボックス 9"/>
          <p:cNvSpPr/>
          <p:nvPr/>
        </p:nvSpPr>
        <p:spPr>
          <a:xfrm>
            <a:off x="6673680" y="669960"/>
            <a:ext cx="2297160" cy="337320"/>
          </a:xfrm>
          <a:prstGeom prst="rect">
            <a:avLst/>
          </a:prstGeom>
          <a:solidFill>
            <a:srgbClr val="ffffff"/>
          </a:solidFill>
          <a:ln w="316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eiryo UI"/>
                <a:ea typeface="Meiryo UI"/>
              </a:rPr>
              <a:t>「活性化プラン」</a:t>
            </a:r>
            <a:endParaRPr b="0" lang="en-US" sz="1600" spc="-1" strike="noStrike">
              <a:solidFill>
                <a:srgbClr val="000000"/>
              </a:solidFill>
              <a:latin typeface="Arial"/>
            </a:endParaRPr>
          </a:p>
        </p:txBody>
      </p:sp>
      <p:sp>
        <p:nvSpPr>
          <p:cNvPr id="506" name="正方形/長方形 16"/>
          <p:cNvSpPr/>
          <p:nvPr/>
        </p:nvSpPr>
        <p:spPr>
          <a:xfrm>
            <a:off x="792000" y="1469880"/>
            <a:ext cx="1576440" cy="522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各集落が抱える課題を</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Meiryo UI"/>
                <a:ea typeface="Meiryo UI"/>
              </a:rPr>
              <a:t>記載してください。</a:t>
            </a:r>
            <a:endParaRPr b="0" lang="en-US" sz="1000" spc="-1" strike="noStrike">
              <a:solidFill>
                <a:srgbClr val="000000"/>
              </a:solidFill>
              <a:latin typeface="Arial"/>
            </a:endParaRPr>
          </a:p>
        </p:txBody>
      </p:sp>
      <p:sp>
        <p:nvSpPr>
          <p:cNvPr id="507" name="正方形/長方形 17"/>
          <p:cNvSpPr/>
          <p:nvPr/>
        </p:nvSpPr>
        <p:spPr>
          <a:xfrm>
            <a:off x="7434360" y="1459080"/>
            <a:ext cx="1547640" cy="550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課題を解決することにより、集落ネットワーク計画が目指す理想的な姿を記載してください。</a:t>
            </a:r>
            <a:endParaRPr b="0" lang="en-US" sz="1000" spc="-1" strike="noStrike">
              <a:solidFill>
                <a:srgbClr val="000000"/>
              </a:solidFill>
              <a:latin typeface="Arial"/>
            </a:endParaRPr>
          </a:p>
        </p:txBody>
      </p:sp>
      <p:sp>
        <p:nvSpPr>
          <p:cNvPr id="508" name="正方形/長方形 19"/>
          <p:cNvSpPr/>
          <p:nvPr/>
        </p:nvSpPr>
        <p:spPr>
          <a:xfrm>
            <a:off x="2703600" y="1465200"/>
            <a:ext cx="4478400" cy="539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地域の課題を解決し、目的を達成するために行う対策を集落ネットワーク圏計画の期間にあわせて、記載してください。</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交付金対象事業については</a:t>
            </a:r>
            <a:r>
              <a:rPr b="1" lang="ja-JP" sz="1000" spc="-1" strike="noStrike">
                <a:solidFill>
                  <a:srgbClr val="ff0000"/>
                </a:solidFill>
                <a:latin typeface="Meiryo UI"/>
                <a:ea typeface="Meiryo UI"/>
              </a:rPr>
              <a:t>赤字</a:t>
            </a:r>
            <a:r>
              <a:rPr b="1" lang="ja-JP" sz="1000" spc="-1" strike="noStrike">
                <a:solidFill>
                  <a:srgbClr val="000000"/>
                </a:solidFill>
                <a:latin typeface="Meiryo UI"/>
                <a:ea typeface="Meiryo UI"/>
              </a:rPr>
              <a:t>で記載してください。</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9" name=""/>
          <p:cNvGraphicFramePr/>
          <p:nvPr/>
        </p:nvGraphicFramePr>
        <p:xfrm>
          <a:off x="58680" y="1182600"/>
          <a:ext cx="8977320" cy="5631120"/>
        </p:xfrm>
        <a:graphic>
          <a:graphicData uri="http://schemas.openxmlformats.org/drawingml/2006/table">
            <a:tbl>
              <a:tblPr/>
              <a:tblGrid>
                <a:gridCol w="696960"/>
                <a:gridCol w="1655640"/>
                <a:gridCol w="2521080"/>
                <a:gridCol w="2448000"/>
                <a:gridCol w="1655640"/>
              </a:tblGrid>
              <a:tr h="878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事業</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分野</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課題</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交付対象事業年度</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２年目ー３年目</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目標</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r>
              <a:tr h="1623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産業振興</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1728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活性化・交流促進</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r>
              <a:tr h="1400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安全・安心の確保、生活支援等</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bl>
          </a:graphicData>
        </a:graphic>
      </p:graphicFrame>
      <p:sp>
        <p:nvSpPr>
          <p:cNvPr id="510" name="テキスト ボックス 1"/>
          <p:cNvSpPr/>
          <p:nvPr/>
        </p:nvSpPr>
        <p:spPr>
          <a:xfrm>
            <a:off x="58680" y="633240"/>
            <a:ext cx="901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集落ネットワーク圏活性化プラン</a:t>
            </a:r>
            <a:endParaRPr b="0" lang="en-US" sz="2400" spc="-1" strike="noStrike">
              <a:solidFill>
                <a:srgbClr val="000000"/>
              </a:solidFill>
              <a:latin typeface="Arial"/>
            </a:endParaRPr>
          </a:p>
        </p:txBody>
      </p:sp>
      <p:sp>
        <p:nvSpPr>
          <p:cNvPr id="511" name="直線コネクタ 3"/>
          <p:cNvSpPr/>
          <p:nvPr/>
        </p:nvSpPr>
        <p:spPr>
          <a:xfrm>
            <a:off x="-47520" y="1101600"/>
            <a:ext cx="9205920" cy="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Rectangle 2"/>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直線コネクタ 13"/>
          <p:cNvSpPr/>
          <p:nvPr/>
        </p:nvSpPr>
        <p:spPr>
          <a:xfrm>
            <a:off x="0" y="622440"/>
            <a:ext cx="914400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テキスト ボックス 9"/>
          <p:cNvSpPr/>
          <p:nvPr/>
        </p:nvSpPr>
        <p:spPr>
          <a:xfrm>
            <a:off x="4865760" y="669960"/>
            <a:ext cx="2297160" cy="337320"/>
          </a:xfrm>
          <a:prstGeom prst="rect">
            <a:avLst/>
          </a:prstGeom>
          <a:solidFill>
            <a:srgbClr val="ffffff"/>
          </a:solidFill>
          <a:ln w="316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eiryo UI"/>
                <a:ea typeface="Meiryo UI"/>
              </a:rPr>
              <a:t>「活性化プラン」</a:t>
            </a:r>
            <a:endParaRPr b="0" lang="en-US" sz="1600" spc="-1" strike="noStrike">
              <a:solidFill>
                <a:srgbClr val="000000"/>
              </a:solidFill>
              <a:latin typeface="Arial"/>
            </a:endParaRPr>
          </a:p>
        </p:txBody>
      </p:sp>
      <p:sp>
        <p:nvSpPr>
          <p:cNvPr id="515" name="テキスト ボックス 6"/>
          <p:cNvSpPr/>
          <p:nvPr/>
        </p:nvSpPr>
        <p:spPr>
          <a:xfrm>
            <a:off x="7365960" y="569880"/>
            <a:ext cx="16556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記載例</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t>
            </a:r>
            <a:r>
              <a:rPr b="1" lang="ja-JP" sz="1000" spc="-1" strike="noStrike">
                <a:solidFill>
                  <a:srgbClr val="ff0000"/>
                </a:solidFill>
                <a:latin typeface="Arial"/>
              </a:rPr>
              <a:t>計画期間が３カ年の場合</a:t>
            </a:r>
            <a:endParaRPr b="0" lang="en-US" sz="1000" spc="-1" strike="noStrike">
              <a:solidFill>
                <a:srgbClr val="000000"/>
              </a:solidFill>
              <a:latin typeface="Arial"/>
            </a:endParaRPr>
          </a:p>
        </p:txBody>
      </p:sp>
      <p:sp>
        <p:nvSpPr>
          <p:cNvPr id="516" name="正方形/長方形 1"/>
          <p:cNvSpPr/>
          <p:nvPr/>
        </p:nvSpPr>
        <p:spPr>
          <a:xfrm>
            <a:off x="-36360" y="3882960"/>
            <a:ext cx="3365280" cy="26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正方形/長方形 6"/>
          <p:cNvSpPr/>
          <p:nvPr/>
        </p:nvSpPr>
        <p:spPr>
          <a:xfrm>
            <a:off x="735120" y="1992240"/>
            <a:ext cx="1716120" cy="127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農業等、地区の産業を発展させたい。</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鳥獣被害が甚大で、農産物</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の生産が困難</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地域資源を活かした加工品</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がない</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8" name="正方形/長方形 16"/>
          <p:cNvSpPr/>
          <p:nvPr/>
        </p:nvSpPr>
        <p:spPr>
          <a:xfrm>
            <a:off x="792000" y="1469880"/>
            <a:ext cx="1576440" cy="522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各集落が抱える課題を</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Meiryo UI"/>
                <a:ea typeface="Meiryo UI"/>
              </a:rPr>
              <a:t>記載してください。</a:t>
            </a:r>
            <a:endParaRPr b="0" lang="en-US" sz="1000" spc="-1" strike="noStrike">
              <a:solidFill>
                <a:srgbClr val="000000"/>
              </a:solidFill>
              <a:latin typeface="Arial"/>
            </a:endParaRPr>
          </a:p>
        </p:txBody>
      </p:sp>
      <p:sp>
        <p:nvSpPr>
          <p:cNvPr id="519" name="正方形/長方形 17"/>
          <p:cNvSpPr/>
          <p:nvPr/>
        </p:nvSpPr>
        <p:spPr>
          <a:xfrm>
            <a:off x="7434360" y="1459080"/>
            <a:ext cx="1547640" cy="550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課題を解決することにより、集落ネットワーク計画が目指す理想的な姿を記載してください。</a:t>
            </a:r>
            <a:endParaRPr b="0" lang="en-US" sz="1000" spc="-1" strike="noStrike">
              <a:solidFill>
                <a:srgbClr val="000000"/>
              </a:solidFill>
              <a:latin typeface="Arial"/>
            </a:endParaRPr>
          </a:p>
        </p:txBody>
      </p:sp>
      <p:sp>
        <p:nvSpPr>
          <p:cNvPr id="520" name="正方形/長方形 18"/>
          <p:cNvSpPr/>
          <p:nvPr/>
        </p:nvSpPr>
        <p:spPr>
          <a:xfrm>
            <a:off x="720720" y="3695760"/>
            <a:ext cx="1673280" cy="127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地域内外の交流が少ない。</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世代間の交流の機会が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ない。</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伝統文化（○○神楽）の</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継承・発信ができていない。</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地区外との交流の機会がな</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い。</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1" name="正方形/長方形 19"/>
          <p:cNvSpPr/>
          <p:nvPr/>
        </p:nvSpPr>
        <p:spPr>
          <a:xfrm>
            <a:off x="2703600" y="1465200"/>
            <a:ext cx="4478400" cy="539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地域の課題を解決し、目的を達成するために行う対策を集落ネットワーク圏計画の期間にあわせて、記載してください。</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交付金対象事業については</a:t>
            </a:r>
            <a:r>
              <a:rPr b="1" lang="ja-JP" sz="1000" spc="-1" strike="noStrike">
                <a:solidFill>
                  <a:srgbClr val="ff0000"/>
                </a:solidFill>
                <a:latin typeface="Meiryo UI"/>
                <a:ea typeface="Meiryo UI"/>
              </a:rPr>
              <a:t>赤字</a:t>
            </a:r>
            <a:r>
              <a:rPr b="1" lang="ja-JP" sz="1000" spc="-1" strike="noStrike">
                <a:solidFill>
                  <a:srgbClr val="000000"/>
                </a:solidFill>
                <a:latin typeface="Meiryo UI"/>
                <a:ea typeface="Meiryo UI"/>
              </a:rPr>
              <a:t>で記載してください。</a:t>
            </a:r>
            <a:endParaRPr b="0" lang="en-US" sz="1000" spc="-1" strike="noStrike">
              <a:solidFill>
                <a:srgbClr val="000000"/>
              </a:solidFill>
              <a:latin typeface="Arial"/>
            </a:endParaRPr>
          </a:p>
        </p:txBody>
      </p:sp>
      <p:sp>
        <p:nvSpPr>
          <p:cNvPr id="522" name="正方形/長方形 20"/>
          <p:cNvSpPr/>
          <p:nvPr/>
        </p:nvSpPr>
        <p:spPr>
          <a:xfrm>
            <a:off x="730080" y="5437080"/>
            <a:ext cx="1665360" cy="127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地域が暮らしにくくなりつつあ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ネットワーク圏内にあった２つ</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の商店のうち１店が閉鎖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買い物が不便になっ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高齢者世帯が多く、生活上</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の不便をよく耳にする。</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3" name="正方形/長方形 21"/>
          <p:cNvSpPr/>
          <p:nvPr/>
        </p:nvSpPr>
        <p:spPr>
          <a:xfrm>
            <a:off x="7313760" y="2003400"/>
            <a:ext cx="1807920" cy="1130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特産品や加工品による産業振興により、地域の活性化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地区のブランドを確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生産量の拡大、販路の確保</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4" name="正方形/長方形 22"/>
          <p:cNvSpPr/>
          <p:nvPr/>
        </p:nvSpPr>
        <p:spPr>
          <a:xfrm>
            <a:off x="7389720" y="3632040"/>
            <a:ext cx="1606680" cy="127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きっかけをつくり、地域住民に元気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拠点施設の設置により、交</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流の機会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伝統芸能を活かしたイベ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トの実施</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5" name="正方形/長方形 23"/>
          <p:cNvSpPr/>
          <p:nvPr/>
        </p:nvSpPr>
        <p:spPr>
          <a:xfrm>
            <a:off x="7404120" y="5437080"/>
            <a:ext cx="1606680" cy="962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住民が共に支え合う地区へ！</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見守りサービスや日常生活</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のお手伝いにより、みんな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支え合う暮らしの実現</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6" name="正方形/長方形 1"/>
          <p:cNvSpPr/>
          <p:nvPr/>
        </p:nvSpPr>
        <p:spPr>
          <a:xfrm>
            <a:off x="2381400" y="2030400"/>
            <a:ext cx="2541600" cy="16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0000"/>
                </a:solidFill>
                <a:latin typeface="Meiryo UI"/>
                <a:ea typeface="Meiryo UI"/>
              </a:rPr>
              <a:t>◆</a:t>
            </a:r>
            <a:r>
              <a:rPr b="1" lang="ja-JP" sz="1100" spc="-1" strike="noStrike">
                <a:solidFill>
                  <a:srgbClr val="ff0000"/>
                </a:solidFill>
                <a:latin typeface="Meiryo UI"/>
                <a:ea typeface="Meiryo UI"/>
              </a:rPr>
              <a:t>農産物の栽培拡大</a:t>
            </a:r>
            <a:r>
              <a:rPr b="1" lang="en-US" sz="1000" spc="-1" strike="noStrike">
                <a:solidFill>
                  <a:srgbClr val="ff0000"/>
                </a:solidFill>
                <a:latin typeface="Meiryo UI"/>
                <a:ea typeface="Meiryo UI"/>
              </a:rPr>
              <a:t>(</a:t>
            </a:r>
            <a:r>
              <a:rPr b="1" lang="ja-JP" sz="1000" spc="-1" strike="noStrike">
                <a:solidFill>
                  <a:srgbClr val="ff0000"/>
                </a:solidFill>
                <a:latin typeface="Meiryo UI"/>
                <a:ea typeface="Meiryo UI"/>
              </a:rPr>
              <a:t>○○</a:t>
            </a:r>
            <a:r>
              <a:rPr b="1" lang="ja-JP" sz="1000" spc="-1" strike="noStrike">
                <a:solidFill>
                  <a:srgbClr val="ff0000"/>
                </a:solidFill>
                <a:latin typeface="Meiryo UI"/>
                <a:ea typeface="Meiryo UI"/>
              </a:rPr>
              <a:t>部会</a:t>
            </a:r>
            <a:r>
              <a:rPr b="1" lang="en-US" sz="1000" spc="-1" strike="noStrike">
                <a:solidFill>
                  <a:srgbClr val="ff0000"/>
                </a:solidFill>
                <a:latin typeface="Meiryo UI"/>
                <a:ea typeface="Meiryo UI"/>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Meiryo UI"/>
                <a:ea typeface="Meiryo UI"/>
              </a:rPr>
              <a:t>　・市場性のある野菜を調査し、住民で協力し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Meiryo UI"/>
                <a:ea typeface="Meiryo UI"/>
              </a:rPr>
              <a:t>　　て栽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0000"/>
                </a:solidFill>
                <a:latin typeface="Meiryo UI"/>
                <a:ea typeface="Meiryo UI"/>
              </a:rPr>
              <a:t>◆</a:t>
            </a:r>
            <a:r>
              <a:rPr b="1" lang="ja-JP" sz="1100" spc="-1" strike="noStrike">
                <a:solidFill>
                  <a:srgbClr val="ff0000"/>
                </a:solidFill>
                <a:latin typeface="Meiryo UI"/>
                <a:ea typeface="Meiryo UI"/>
              </a:rPr>
              <a:t>鳥獣害対策</a:t>
            </a:r>
            <a:r>
              <a:rPr b="1" lang="ja-JP" sz="1000" spc="-1" strike="noStrike">
                <a:solidFill>
                  <a:srgbClr val="ff0000"/>
                </a:solidFill>
                <a:latin typeface="Meiryo UI"/>
                <a:ea typeface="Meiryo UI"/>
              </a:rPr>
              <a:t>（○○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Meiryo UI"/>
                <a:ea typeface="Meiryo UI"/>
              </a:rPr>
              <a:t>　・大型捕獲オリ、電気柵の設置</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Meiryo UI"/>
                <a:ea typeface="Meiryo UI"/>
              </a:rPr>
              <a:t>　・鳥獣害防止のため農地見回りサービ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a:t>
            </a:r>
            <a:r>
              <a:rPr b="1" lang="ja-JP" sz="1100" spc="-1" strike="noStrike">
                <a:solidFill>
                  <a:srgbClr val="000000"/>
                </a:solidFill>
                <a:latin typeface="Meiryo UI"/>
                <a:ea typeface="Meiryo UI"/>
              </a:rPr>
              <a:t>地域の特産品の生産拡大</a:t>
            </a: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a:t>
            </a:r>
            <a:r>
              <a:rPr b="1" lang="ja-JP" sz="1000" spc="-1" strike="noStrike">
                <a:solidFill>
                  <a:srgbClr val="000000"/>
                </a:solidFill>
                <a:latin typeface="Meiryo UI"/>
                <a:ea typeface="Meiryo UI"/>
              </a:rPr>
              <a:t>部会</a:t>
            </a:r>
            <a:r>
              <a:rPr b="1" lang="en-US" sz="1000" spc="-1" strike="noStrike">
                <a:solidFill>
                  <a:srgbClr val="000000"/>
                </a:solidFill>
                <a:latin typeface="Meiryo UI"/>
                <a:ea typeface="Meiryo UI"/>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耕作放棄地を農地として再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生産、出荷マニュアル作成・実施で地区のブ</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ランド確立</a:t>
            </a:r>
            <a:endParaRPr b="0" lang="en-US" sz="1000" spc="-1" strike="noStrike">
              <a:solidFill>
                <a:srgbClr val="000000"/>
              </a:solidFill>
              <a:latin typeface="Arial"/>
            </a:endParaRPr>
          </a:p>
        </p:txBody>
      </p:sp>
      <p:sp>
        <p:nvSpPr>
          <p:cNvPr id="527" name="正方形/長方形 1"/>
          <p:cNvSpPr/>
          <p:nvPr/>
        </p:nvSpPr>
        <p:spPr>
          <a:xfrm>
            <a:off x="4830840" y="204624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a:t>
            </a:r>
            <a:r>
              <a:rPr b="1" lang="ja-JP" sz="1100" spc="-1" strike="noStrike">
                <a:solidFill>
                  <a:srgbClr val="000000"/>
                </a:solidFill>
                <a:latin typeface="Meiryo UI"/>
                <a:ea typeface="Meiryo UI"/>
              </a:rPr>
              <a:t>地域の特産品を活かした加工品の開発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eiryo UI"/>
                <a:ea typeface="Meiryo UI"/>
              </a:rPr>
              <a:t>   </a:t>
            </a: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a:t>
            </a:r>
            <a:r>
              <a:rPr b="1" lang="ja-JP" sz="1000" spc="-1" strike="noStrike">
                <a:solidFill>
                  <a:srgbClr val="000000"/>
                </a:solidFill>
                <a:latin typeface="Meiryo UI"/>
                <a:ea typeface="Meiryo UI"/>
              </a:rPr>
              <a:t>部会</a:t>
            </a: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２年目</a:t>
            </a:r>
            <a:r>
              <a:rPr b="1" lang="en-US" sz="1000" spc="-1" strike="noStrike">
                <a:solidFill>
                  <a:srgbClr val="000000"/>
                </a:solidFill>
                <a:latin typeface="Meiryo UI"/>
                <a:ea typeface="Meiryo UI"/>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廃校舎を活用し、生産加工設備を設置</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加工品の開発</a:t>
            </a:r>
            <a:endParaRPr b="0" lang="en-US" sz="1000" spc="-1" strike="noStrike">
              <a:solidFill>
                <a:srgbClr val="000000"/>
              </a:solidFill>
              <a:latin typeface="Arial"/>
            </a:endParaRPr>
          </a:p>
        </p:txBody>
      </p:sp>
      <p:sp>
        <p:nvSpPr>
          <p:cNvPr id="528" name="正方形/長方形 1"/>
          <p:cNvSpPr/>
          <p:nvPr/>
        </p:nvSpPr>
        <p:spPr>
          <a:xfrm>
            <a:off x="2319480" y="3670200"/>
            <a:ext cx="2690640" cy="176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0000"/>
                </a:solidFill>
                <a:latin typeface="Meiryo UI"/>
                <a:ea typeface="Meiryo UI"/>
              </a:rPr>
              <a:t>◆</a:t>
            </a:r>
            <a:r>
              <a:rPr b="1" lang="ja-JP" sz="1100" spc="-1" strike="noStrike">
                <a:solidFill>
                  <a:srgbClr val="ff0000"/>
                </a:solidFill>
                <a:latin typeface="Meiryo UI"/>
                <a:ea typeface="Meiryo UI"/>
              </a:rPr>
              <a:t>拠点施設で住民交流</a:t>
            </a:r>
            <a:r>
              <a:rPr b="1" lang="ja-JP" sz="1000" spc="-1" strike="noStrike">
                <a:solidFill>
                  <a:srgbClr val="ff0000"/>
                </a:solidFill>
                <a:latin typeface="Meiryo UI"/>
                <a:ea typeface="Meiryo UI"/>
              </a:rPr>
              <a:t>（△△部会）</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移住</a:t>
            </a:r>
            <a:r>
              <a:rPr b="0" lang="en-US" sz="1100" spc="-1" strike="noStrike">
                <a:solidFill>
                  <a:srgbClr val="ff0000"/>
                </a:solidFill>
                <a:latin typeface="Meiryo UI"/>
                <a:ea typeface="Meiryo UI"/>
              </a:rPr>
              <a:t>､</a:t>
            </a:r>
            <a:r>
              <a:rPr b="0" lang="ja-JP" sz="1100" spc="-1" strike="noStrike">
                <a:solidFill>
                  <a:srgbClr val="ff0000"/>
                </a:solidFill>
                <a:latin typeface="Meiryo UI"/>
                <a:ea typeface="Meiryo UI"/>
              </a:rPr>
              <a:t>交流の活動拠点として公民館を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活用し、地域外への情報発信や地区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住民の情報交換及び高齢者等が談話</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できる交流の場として活用</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0000"/>
                </a:solidFill>
                <a:latin typeface="Meiryo UI"/>
                <a:ea typeface="Meiryo UI"/>
              </a:rPr>
              <a:t>◆</a:t>
            </a:r>
            <a:r>
              <a:rPr b="1" lang="ja-JP" sz="1100" spc="-1" strike="noStrike">
                <a:solidFill>
                  <a:srgbClr val="ff0000"/>
                </a:solidFill>
                <a:latin typeface="Meiryo UI"/>
                <a:ea typeface="Meiryo UI"/>
              </a:rPr>
              <a:t>祭りを活用した地域活性化</a:t>
            </a:r>
            <a:r>
              <a:rPr b="1" lang="ja-JP" sz="1000" spc="-1" strike="noStrike">
                <a:solidFill>
                  <a:srgbClr val="ff0000"/>
                </a:solidFill>
                <a:latin typeface="Meiryo UI"/>
                <a:ea typeface="Meiryo UI"/>
              </a:rPr>
              <a:t>（△△部会）</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地域の伝統芸能を活かしたイベントの開催</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祭り等のイベントで地場産品の販売促進</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棚田オーナー制度の実施（植え付けや収</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穫時に交流会実施）</a:t>
            </a:r>
            <a:endParaRPr b="0" lang="en-US" sz="1100" spc="-1" strike="noStrike">
              <a:solidFill>
                <a:srgbClr val="000000"/>
              </a:solidFill>
              <a:latin typeface="Arial"/>
            </a:endParaRPr>
          </a:p>
        </p:txBody>
      </p:sp>
      <p:sp>
        <p:nvSpPr>
          <p:cNvPr id="529" name="正方形/長方形 1"/>
          <p:cNvSpPr/>
          <p:nvPr/>
        </p:nvSpPr>
        <p:spPr>
          <a:xfrm>
            <a:off x="4861080" y="3664080"/>
            <a:ext cx="24667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a:t>
            </a:r>
            <a:r>
              <a:rPr b="1" lang="ja-JP" sz="1100" spc="-1" strike="noStrike">
                <a:solidFill>
                  <a:srgbClr val="000000"/>
                </a:solidFill>
                <a:latin typeface="Meiryo UI"/>
                <a:ea typeface="Meiryo UI"/>
              </a:rPr>
              <a:t>放課後塾で子どもの教育</a:t>
            </a:r>
            <a:r>
              <a:rPr b="1" lang="ja-JP" sz="1000" spc="-1" strike="noStrike">
                <a:solidFill>
                  <a:srgbClr val="000000"/>
                </a:solidFill>
                <a:latin typeface="Meiryo UI"/>
                <a:ea typeface="Meiryo UI"/>
              </a:rPr>
              <a:t>（△△部会、</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Meiryo UI"/>
                <a:ea typeface="Meiryo UI"/>
              </a:rPr>
              <a:t>　２年目</a:t>
            </a: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３年目）</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子ども放課後教室、地域文化の学習会の</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開催</a:t>
            </a:r>
            <a:endParaRPr b="0" lang="en-US" sz="1000" spc="-1" strike="noStrike">
              <a:solidFill>
                <a:srgbClr val="000000"/>
              </a:solidFill>
              <a:latin typeface="Arial"/>
            </a:endParaRPr>
          </a:p>
        </p:txBody>
      </p:sp>
      <p:sp>
        <p:nvSpPr>
          <p:cNvPr id="530" name="正方形/長方形 1"/>
          <p:cNvSpPr/>
          <p:nvPr/>
        </p:nvSpPr>
        <p:spPr>
          <a:xfrm>
            <a:off x="2344680" y="5396040"/>
            <a:ext cx="2691000" cy="12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0000"/>
                </a:solidFill>
                <a:latin typeface="Meiryo UI"/>
                <a:ea typeface="Meiryo UI"/>
              </a:rPr>
              <a:t>◆</a:t>
            </a:r>
            <a:r>
              <a:rPr b="1" lang="ja-JP" sz="1100" spc="-1" strike="noStrike">
                <a:solidFill>
                  <a:srgbClr val="ff0000"/>
                </a:solidFill>
                <a:latin typeface="Meiryo UI"/>
                <a:ea typeface="Meiryo UI"/>
              </a:rPr>
              <a:t>高齢者への買い物対策（□□部会）</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コミュニティバスで買い物バスツアー</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郵便局と連携した食材配送と見守り活動、</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生活必需品の配送</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0000"/>
                </a:solidFill>
                <a:latin typeface="Meiryo UI"/>
                <a:ea typeface="Meiryo UI"/>
              </a:rPr>
              <a:t>◆</a:t>
            </a:r>
            <a:r>
              <a:rPr b="1" lang="ja-JP" sz="1100" spc="-1" strike="noStrike">
                <a:solidFill>
                  <a:srgbClr val="ff0000"/>
                </a:solidFill>
                <a:latin typeface="Meiryo UI"/>
                <a:ea typeface="Meiryo UI"/>
              </a:rPr>
              <a:t>地域支援型コミュニティビジネスの立ち上げ（□□部会）</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高齢者の見守り・家の修繕・遊休地管理</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等のサービスを実施</a:t>
            </a:r>
            <a:endParaRPr b="0" lang="en-US" sz="1100" spc="-1" strike="noStrike">
              <a:solidFill>
                <a:srgbClr val="000000"/>
              </a:solidFill>
              <a:latin typeface="Arial"/>
            </a:endParaRPr>
          </a:p>
        </p:txBody>
      </p:sp>
      <p:sp>
        <p:nvSpPr>
          <p:cNvPr id="531" name="正方形/長方形 1"/>
          <p:cNvSpPr/>
          <p:nvPr/>
        </p:nvSpPr>
        <p:spPr>
          <a:xfrm>
            <a:off x="4853160" y="5416560"/>
            <a:ext cx="24876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a:t>
            </a:r>
            <a:r>
              <a:rPr b="1" lang="ja-JP" sz="1100" spc="-1" strike="noStrike">
                <a:solidFill>
                  <a:srgbClr val="000000"/>
                </a:solidFill>
                <a:latin typeface="Meiryo UI"/>
                <a:ea typeface="Meiryo UI"/>
              </a:rPr>
              <a:t>防災対策（□□部会、</a:t>
            </a:r>
            <a:r>
              <a:rPr b="1" lang="en-US" sz="1100" spc="-1" strike="noStrike">
                <a:solidFill>
                  <a:srgbClr val="000000"/>
                </a:solidFill>
                <a:latin typeface="Meiryo UI"/>
                <a:ea typeface="Meiryo UI"/>
              </a:rPr>
              <a:t>3</a:t>
            </a:r>
            <a:r>
              <a:rPr b="1" lang="ja-JP" sz="1100" spc="-1" strike="noStrike">
                <a:solidFill>
                  <a:srgbClr val="000000"/>
                </a:solidFill>
                <a:latin typeface="Meiryo UI"/>
                <a:ea typeface="Meiryo UI"/>
              </a:rPr>
              <a:t>年目）</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地区合同避難訓練及び地区防マップ整備</a:t>
            </a:r>
            <a:endParaRPr b="0" lang="en-US" sz="1000" spc="-1" strike="noStrike">
              <a:solidFill>
                <a:srgbClr val="000000"/>
              </a:solidFill>
              <a:latin typeface="Arial"/>
            </a:endParaRPr>
          </a:p>
        </p:txBody>
      </p:sp>
      <p:sp>
        <p:nvSpPr>
          <p:cNvPr id="532" name="角丸四角形 25"/>
          <p:cNvSpPr/>
          <p:nvPr/>
        </p:nvSpPr>
        <p:spPr>
          <a:xfrm>
            <a:off x="58680" y="146160"/>
            <a:ext cx="9018720" cy="4460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Meiryo UI"/>
                <a:ea typeface="Meiryo UI"/>
              </a:rPr>
              <a:t>　これはあくまでも「活性化プラン」の一例（イメージ）です。地域運営組織等において、地域の実情を踏まえて創意工夫を凝らして総合的にご検討くださ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3T01:50:44Z</dcterms:created>
  <dc:creator>ioas_user</dc:creator>
  <dc:description/>
  <dc:language>en-US</dc:language>
  <cp:lastModifiedBy>Administrator</cp:lastModifiedBy>
  <cp:lastPrinted>2017-12-19T08:23:56Z</cp:lastPrinted>
  <dcterms:modified xsi:type="dcterms:W3CDTF">2018-12-12T02:31:52Z</dcterms:modified>
  <cp:revision>286</cp:revision>
  <dc:subject/>
  <dc:title>スライド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isplay_urn:schemas-microsoft-com:office:office#Author">
    <vt:lpwstr>ioas_user</vt:lpwstr>
  </property>
  <property fmtid="{D5CDD505-2E9C-101B-9397-08002B2CF9AE}" pid="3" name="display_urn:schemas-microsoft-com:office:office#Editor">
    <vt:lpwstr>Administrator</vt:lpwstr>
  </property>
</Properties>
</file>