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99393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E16-8EF1-4DF5-9886-3767D208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1A5E-7BDF-4B8C-A78C-AAF7A6BF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4BC3-A1B0-47EA-97E7-24B301C2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41E-3B29-480D-BB32-BC98E601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114-EC3A-41A6-8DD6-F79FF0E14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DCBA-3267-418F-BEEE-17E9A3F8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C869-0D64-4572-B4B3-12260CBA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4E0-F40F-4236-BA07-221689AF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145-3BC1-46FA-8C96-D984BAFE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A0A4-A559-49C0-A6B4-D4F179C2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7D8B-31B1-48D5-8BC7-E7F9AB32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B74-093E-4DC5-BBAA-984026E2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383D-3B21-4FD1-BC4F-F5354395AFAD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本の文章とブログ記事の見比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b_012"/>
          <p:cNvPicPr/>
          <p:nvPr/>
        </p:nvPicPr>
        <p:blipFill>
          <a:blip r:embed="rId1"/>
          <a:stretch/>
        </p:blipFill>
        <p:spPr>
          <a:xfrm>
            <a:off x="0" y="958680"/>
            <a:ext cx="9906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ネットと本を使った調べ学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b_005"/>
          <p:cNvPicPr/>
          <p:nvPr/>
        </p:nvPicPr>
        <p:blipFill>
          <a:blip r:embed="rId1"/>
          <a:stretch/>
        </p:blipFill>
        <p:spPr>
          <a:xfrm>
            <a:off x="0" y="498600"/>
            <a:ext cx="5848200" cy="308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b_009"/>
          <p:cNvPicPr/>
          <p:nvPr/>
        </p:nvPicPr>
        <p:blipFill>
          <a:blip r:embed="rId2"/>
          <a:stretch/>
        </p:blipFill>
        <p:spPr>
          <a:xfrm>
            <a:off x="4057560" y="3790800"/>
            <a:ext cx="5848560" cy="30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ネット検索のポイ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b_008"/>
          <p:cNvPicPr/>
          <p:nvPr/>
        </p:nvPicPr>
        <p:blipFill>
          <a:blip r:embed="rId1"/>
          <a:stretch/>
        </p:blipFill>
        <p:spPr>
          <a:xfrm>
            <a:off x="-6480" y="498600"/>
            <a:ext cx="5848560" cy="3082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b_018"/>
          <p:cNvPicPr/>
          <p:nvPr/>
        </p:nvPicPr>
        <p:blipFill>
          <a:blip r:embed="rId2"/>
          <a:stretch/>
        </p:blipFill>
        <p:spPr>
          <a:xfrm>
            <a:off x="4064040" y="3789360"/>
            <a:ext cx="584820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調べ学習コンクールで優秀賞受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b_026"/>
          <p:cNvPicPr/>
          <p:nvPr/>
        </p:nvPicPr>
        <p:blipFill>
          <a:blip r:embed="rId1"/>
          <a:stretch/>
        </p:blipFill>
        <p:spPr>
          <a:xfrm>
            <a:off x="0" y="960480"/>
            <a:ext cx="9906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調べ学習のポイ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b_026"/>
          <p:cNvPicPr/>
          <p:nvPr/>
        </p:nvPicPr>
        <p:blipFill>
          <a:blip r:embed="rId1"/>
          <a:stretch/>
        </p:blipFill>
        <p:spPr>
          <a:xfrm>
            <a:off x="0" y="960480"/>
            <a:ext cx="9906120" cy="5145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m-miyazaki\デスクトップ\B001.jpg"/>
          <p:cNvPicPr/>
          <p:nvPr/>
        </p:nvPicPr>
        <p:blipFill>
          <a:blip r:embed="rId2"/>
          <a:stretch/>
        </p:blipFill>
        <p:spPr>
          <a:xfrm>
            <a:off x="762120" y="1252440"/>
            <a:ext cx="838188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3:17:09Z</dcterms:created>
  <dc:creator>kouroji</dc:creator>
  <dc:description/>
  <dc:language>en-US</dc:language>
  <cp:lastModifiedBy>MURC2</cp:lastModifiedBy>
  <dcterms:modified xsi:type="dcterms:W3CDTF">2011-04-15T03:37:21Z</dcterms:modified>
  <cp:revision>23</cp:revision>
  <dc:subject/>
  <dc:title>スライド 1</dc:title>
</cp:coreProperties>
</file>