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907588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CBD9-52D7-47CE-A743-E7CDDDC4E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8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6520"/>
            <a:ext cx="6172200" cy="3118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3336-3A0E-4DBF-B9FD-1835EA81F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8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8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6520"/>
            <a:ext cx="3011760" cy="3118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6520"/>
            <a:ext cx="3011760" cy="3118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42DB-D272-451F-BCC9-E9C427693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8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8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8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6520"/>
            <a:ext cx="1987200" cy="3118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6520"/>
            <a:ext cx="1987200" cy="3118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6520"/>
            <a:ext cx="1987200" cy="3118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1804-E04A-4A91-9A75-571A773F6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6F9C-EE73-453E-9958-CDB095D12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8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097E-9151-4CA3-8980-50DA1F535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8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8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DCCA-BE18-476F-BB2F-66B47973E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8D7F-04F2-4F63-B8F7-CC852964A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6926-23D1-455A-BA7A-F8ED1DACC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8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8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6520"/>
            <a:ext cx="3011760" cy="3118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7541-0CC3-45F0-8524-6DD442B8E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8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8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6520"/>
            <a:ext cx="3011760" cy="3118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EF55-74D5-49D8-B050-52439C6DA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8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8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6520"/>
            <a:ext cx="6172200" cy="3118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6964-CCBA-4694-A79A-2EC630492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8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7120" indent="-3571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9844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976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674720" indent="-2379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21600"/>
            <a:ext cx="1600200" cy="687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1600"/>
            <a:ext cx="2171520" cy="687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21600"/>
            <a:ext cx="1600200" cy="687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81514-F614-4F13-9E66-ABEC55D80D5C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57240" y="109440"/>
            <a:ext cx="509256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ctr">
            <a:noAutofit/>
          </a:bodyPr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◆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亜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b_ai_02"/>
          <p:cNvPicPr/>
          <p:nvPr/>
        </p:nvPicPr>
        <p:blipFill>
          <a:blip r:embed="rId1"/>
          <a:srcRect l="3921" t="0" r="32268" b="0"/>
          <a:stretch/>
        </p:blipFill>
        <p:spPr>
          <a:xfrm>
            <a:off x="0" y="1887480"/>
            <a:ext cx="6858000" cy="59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57240" y="109440"/>
            <a:ext cx="509256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ctr">
            <a:noAutofit/>
          </a:bodyPr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◆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真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b_mayu_01"/>
          <p:cNvPicPr/>
          <p:nvPr/>
        </p:nvPicPr>
        <p:blipFill>
          <a:blip r:embed="rId1"/>
          <a:srcRect l="8341" t="0" r="25189" b="0"/>
          <a:stretch/>
        </p:blipFill>
        <p:spPr>
          <a:xfrm>
            <a:off x="0" y="1833480"/>
            <a:ext cx="6858000" cy="59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7240" y="109440"/>
            <a:ext cx="509256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ctr">
            <a:noAutofit/>
          </a:bodyPr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◆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亜衣の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b_chichi"/>
          <p:cNvPicPr/>
          <p:nvPr/>
        </p:nvPicPr>
        <p:blipFill>
          <a:blip r:embed="rId1"/>
          <a:srcRect l="0" t="0" r="21401" b="0"/>
          <a:stretch/>
        </p:blipFill>
        <p:spPr>
          <a:xfrm>
            <a:off x="0" y="1887480"/>
            <a:ext cx="6858000" cy="59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7T03:17:09Z</dcterms:created>
  <dc:creator>kouroji</dc:creator>
  <dc:description/>
  <dc:language>en-US</dc:language>
  <cp:lastModifiedBy>MURC2</cp:lastModifiedBy>
  <dcterms:modified xsi:type="dcterms:W3CDTF">2011-04-15T03:37:01Z</dcterms:modified>
  <cp:revision>21</cp:revision>
  <dc:subject/>
  <dc:title>スライド 1</dc:title>
</cp:coreProperties>
</file>