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9939338" cy="680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D616-F75A-4E61-885E-00E23349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3EB-136C-49AC-9CE6-E1423D15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03DA-D506-4985-8EF6-6D461402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0820-AA5F-43AB-BEE4-4EA40C73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87E-E764-417B-8A54-CEBE1AE9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7881-ED7C-43CF-9C6B-11434BDE8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0FDC-390F-409D-B326-CCB2C6EF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2F35-7262-4F63-B7BC-E9F3F19B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50F7-10C4-4E11-B2D5-36EC3352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E46A-BC2D-4501-8BF3-AA26D6B9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D4CC-8B53-4EB1-B3AD-D8FA3528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CE7-0869-44CC-8F0E-CAB3EB41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7120" indent="-3571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528F-E2A8-485F-BD8E-BF8042DDDF80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055960" y="652320"/>
            <a:ext cx="6310080" cy="5743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" rIns="55440" tIns="6480" bIns="6480" anchor="t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370240" y="998640"/>
            <a:ext cx="5681520" cy="5037120"/>
          </a:xfrm>
          <a:prstGeom prst="rect">
            <a:avLst/>
          </a:prstGeom>
          <a:solidFill>
            <a:srgbClr val="ffffff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" rIns="55440" tIns="6480" bIns="64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ja-JP" sz="3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無題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―――――――――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ja-JP" sz="3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小林先輩初めまして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ja-JP" sz="3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西高バスケ部の後輩です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ja-JP" sz="3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小林先輩、高校の時に全国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ja-JP" sz="3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行ってますよね？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ja-JP" sz="3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暇だったら一度、練習に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ja-JP" sz="3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来てもらえませんか？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ja-JP" sz="3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待ちしてます</a:t>
            </a:r>
            <a:r>
              <a:rPr b="1" lang="ja-JP" sz="3300" spc="-1" strike="noStrike">
                <a:solidFill>
                  <a:srgbClr val="99ccff"/>
                </a:solidFill>
                <a:latin typeface="ＭＳ ゴシック"/>
                <a:ea typeface="ＭＳ ゴシック"/>
              </a:rPr>
              <a:t>♪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a_011"/>
          <p:cNvPicPr/>
          <p:nvPr/>
        </p:nvPicPr>
        <p:blipFill>
          <a:blip r:embed="rId1"/>
          <a:srcRect l="43011" t="50121" r="54440" b="43944"/>
          <a:stretch/>
        </p:blipFill>
        <p:spPr>
          <a:xfrm>
            <a:off x="6377040" y="2160720"/>
            <a:ext cx="384120" cy="463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a_011"/>
          <p:cNvPicPr/>
          <p:nvPr/>
        </p:nvPicPr>
        <p:blipFill>
          <a:blip r:embed="rId2"/>
          <a:srcRect l="50189" t="79850" r="46587" b="13170"/>
          <a:stretch/>
        </p:blipFill>
        <p:spPr>
          <a:xfrm>
            <a:off x="5872320" y="3622680"/>
            <a:ext cx="374400" cy="423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82440" y="76320"/>
            <a:ext cx="735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宮下くんが小林先輩に送ったメー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6"/>
          <p:cNvSpPr/>
          <p:nvPr/>
        </p:nvSpPr>
        <p:spPr>
          <a:xfrm>
            <a:off x="82440" y="76320"/>
            <a:ext cx="735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吉田先輩が直接、宮下くんに小林先輩のメールアドレスを教え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>
            <a:off x="2158920" y="600120"/>
            <a:ext cx="4578480" cy="1004760"/>
          </a:xfrm>
          <a:prstGeom prst="wedgeEllipseCallout">
            <a:avLst>
              <a:gd name="adj1" fmla="val -45087"/>
              <a:gd name="adj2" fmla="val 57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440" rIns="55440" tIns="6480" bIns="64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メアド教えるから連絡してみ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a_001"/>
          <p:cNvPicPr/>
          <p:nvPr/>
        </p:nvPicPr>
        <p:blipFill>
          <a:blip r:embed="rId1"/>
          <a:stretch/>
        </p:blipFill>
        <p:spPr>
          <a:xfrm>
            <a:off x="0" y="1731960"/>
            <a:ext cx="99061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2440" y="76320"/>
            <a:ext cx="735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宮下くんが小林先輩にメールの返信を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>
            <a:off x="1768320" y="5743440"/>
            <a:ext cx="5078520" cy="1062000"/>
          </a:xfrm>
          <a:prstGeom prst="wedgeEllipseCallout">
            <a:avLst>
              <a:gd name="adj1" fmla="val -48643"/>
              <a:gd name="adj2" fmla="val -529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440" rIns="55440" tIns="6480" bIns="64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さあー来週から忙し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なるぞー♪（未返信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a_009"/>
          <p:cNvPicPr/>
          <p:nvPr/>
        </p:nvPicPr>
        <p:blipFill>
          <a:blip r:embed="rId1"/>
          <a:stretch/>
        </p:blipFill>
        <p:spPr>
          <a:xfrm>
            <a:off x="0" y="490680"/>
            <a:ext cx="9906120" cy="514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a_011"/>
          <p:cNvPicPr/>
          <p:nvPr/>
        </p:nvPicPr>
        <p:blipFill>
          <a:blip r:embed="rId2"/>
          <a:srcRect l="67098" t="4831" r="11418" b="56600"/>
          <a:stretch/>
        </p:blipFill>
        <p:spPr>
          <a:xfrm>
            <a:off x="328680" y="3481560"/>
            <a:ext cx="198432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82440" y="76320"/>
            <a:ext cx="735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小林先輩からメールをもらった吉田先輩はメールではなく電話をかけ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4554360" y="585720"/>
            <a:ext cx="4967640" cy="1042920"/>
          </a:xfrm>
          <a:prstGeom prst="wedgeEllipseCallout">
            <a:avLst>
              <a:gd name="adj1" fmla="val -44856"/>
              <a:gd name="adj2" fmla="val 592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440" rIns="55440" tIns="6480" bIns="64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後輩が何か失礼をしましたでしょう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ゴシック"/>
              </a:rPr>
              <a:t>…</a:t>
            </a:r>
            <a:r>
              <a:rPr b="0" lang="ja-JP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a_013"/>
          <p:cNvPicPr/>
          <p:nvPr/>
        </p:nvPicPr>
        <p:blipFill>
          <a:blip r:embed="rId1"/>
          <a:stretch/>
        </p:blipFill>
        <p:spPr>
          <a:xfrm>
            <a:off x="0" y="1768320"/>
            <a:ext cx="990612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3:17:09Z</dcterms:created>
  <dc:creator>kouroji</dc:creator>
  <dc:description/>
  <dc:language>en-US</dc:language>
  <cp:lastModifiedBy>MURC2</cp:lastModifiedBy>
  <dcterms:modified xsi:type="dcterms:W3CDTF">2011-04-15T03:36:09Z</dcterms:modified>
  <cp:revision>17</cp:revision>
  <dc:subject/>
  <dc:title>スライド 1</dc:title>
</cp:coreProperties>
</file>