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9939338" cy="6807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39600" cy="680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7040" cy="3412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9320" y="0"/>
            <a:ext cx="4308480" cy="3412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320" bIns="31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126960" y="511200"/>
            <a:ext cx="368460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63000" rIns="63000" tIns="31320" bIns="3132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320" bIns="3132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65600"/>
            <a:ext cx="4307040" cy="3394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320" bIns="313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9320" y="6465600"/>
            <a:ext cx="4308480" cy="339480"/>
          </a:xfrm>
          <a:prstGeom prst="rect">
            <a:avLst/>
          </a:prstGeom>
          <a:noFill/>
          <a:ln w="0">
            <a:noFill/>
          </a:ln>
        </p:spPr>
        <p:txBody>
          <a:bodyPr lIns="63000" rIns="63000" tIns="31320" bIns="313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139C-1B35-4226-80C1-C7A05A535F3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562932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320" bIns="313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8CD7-ECFD-416C-B5C7-4D0C387857D4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3127320" y="511200"/>
            <a:ext cx="3684600" cy="255096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93240" y="3233880"/>
            <a:ext cx="7952040" cy="30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01E9-FEE9-4309-B9D8-ED0E7D72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B324-089A-44C7-B74D-2F8A145E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5A6-32C9-4434-96BE-63B5F59D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3C1-C14A-4B1C-B638-938133EC9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1FAA-001F-40D3-951B-13E7AA8C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088-26AD-4BA5-A1FE-9F52EA0E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516D-858D-4FFD-B8DD-EB1FF438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BAE-1456-49BE-82E7-BC2EB07E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6D2-ACD5-41E0-B233-B8685DB3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26E-A362-4FBD-B174-B95652DA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052E-086F-414D-9A91-2029B0F9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A937-9E92-4788-BFFF-658E75F5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E720-897B-4386-9F1A-08BEEB36DA48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82440" y="76320"/>
            <a:ext cx="73551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人物相関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2"/>
          <p:cNvSpPr/>
          <p:nvPr/>
        </p:nvSpPr>
        <p:spPr>
          <a:xfrm flipV="1">
            <a:off x="5113440" y="4252680"/>
            <a:ext cx="0" cy="1431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3"/>
          <p:cNvSpPr/>
          <p:nvPr/>
        </p:nvSpPr>
        <p:spPr>
          <a:xfrm flipV="1">
            <a:off x="5113440" y="2338200"/>
            <a:ext cx="0" cy="3301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4792680" y="5716440"/>
            <a:ext cx="644400" cy="0"/>
          </a:xfrm>
          <a:prstGeom prst="line">
            <a:avLst/>
          </a:prstGeom>
          <a:ln w="5724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5440" rIns="55440" tIns="-6480" bIns="-648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5" descr="a_kobayashi"/>
          <p:cNvPicPr/>
          <p:nvPr/>
        </p:nvPicPr>
        <p:blipFill>
          <a:blip r:embed="rId1"/>
          <a:stretch/>
        </p:blipFill>
        <p:spPr>
          <a:xfrm>
            <a:off x="3794040" y="893880"/>
            <a:ext cx="2603520" cy="1403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a_yoshida_01"/>
          <p:cNvPicPr/>
          <p:nvPr/>
        </p:nvPicPr>
        <p:blipFill>
          <a:blip r:embed="rId2"/>
          <a:stretch/>
        </p:blipFill>
        <p:spPr>
          <a:xfrm>
            <a:off x="3800520" y="2712960"/>
            <a:ext cx="2603520" cy="1403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a_miyashita_01"/>
          <p:cNvPicPr/>
          <p:nvPr/>
        </p:nvPicPr>
        <p:blipFill>
          <a:blip r:embed="rId3"/>
          <a:stretch/>
        </p:blipFill>
        <p:spPr>
          <a:xfrm>
            <a:off x="1944720" y="5008680"/>
            <a:ext cx="2603520" cy="1403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8" descr="a_takahashi"/>
          <p:cNvPicPr/>
          <p:nvPr/>
        </p:nvPicPr>
        <p:blipFill>
          <a:blip r:embed="rId4"/>
          <a:stretch/>
        </p:blipFill>
        <p:spPr>
          <a:xfrm>
            <a:off x="5665680" y="4997520"/>
            <a:ext cx="2603520" cy="14018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9"/>
          <p:cNvSpPr/>
          <p:nvPr/>
        </p:nvSpPr>
        <p:spPr>
          <a:xfrm>
            <a:off x="885960" y="4459320"/>
            <a:ext cx="8413560" cy="232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0"/>
          <p:cNvSpPr/>
          <p:nvPr/>
        </p:nvSpPr>
        <p:spPr>
          <a:xfrm>
            <a:off x="885960" y="549360"/>
            <a:ext cx="841356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1943280" y="6407280"/>
            <a:ext cx="289872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宮下（副キャプテン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8"/>
          <p:cNvSpPr/>
          <p:nvPr/>
        </p:nvSpPr>
        <p:spPr>
          <a:xfrm>
            <a:off x="1165320" y="4560840"/>
            <a:ext cx="23400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西高バスケ部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9"/>
          <p:cNvSpPr/>
          <p:nvPr/>
        </p:nvSpPr>
        <p:spPr>
          <a:xfrm>
            <a:off x="1108080" y="668160"/>
            <a:ext cx="247968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西高バスケ部ＯＢ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0"/>
          <p:cNvSpPr/>
          <p:nvPr/>
        </p:nvSpPr>
        <p:spPr>
          <a:xfrm>
            <a:off x="6568920" y="2039760"/>
            <a:ext cx="261936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小林先輩（社会人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1"/>
          <p:cNvSpPr/>
          <p:nvPr/>
        </p:nvSpPr>
        <p:spPr>
          <a:xfrm>
            <a:off x="6624720" y="3754440"/>
            <a:ext cx="26208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吉田先輩（大学生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2"/>
          <p:cNvSpPr/>
          <p:nvPr/>
        </p:nvSpPr>
        <p:spPr>
          <a:xfrm>
            <a:off x="5754600" y="6408720"/>
            <a:ext cx="262116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5440" rIns="55440" tIns="6480" bIns="64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高橋（キャプテン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3:37:59Z</dcterms:modified>
  <cp:revision>19</cp:revision>
  <dc:subject/>
  <dc:title>スライド 1</dc:title>
</cp:coreProperties>
</file>