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E72-6EA1-4AE8-BF79-8D81B1D09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6520"/>
            <a:ext cx="6172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6ADE-A3F3-4618-9E18-5B12D236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652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652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CF1A-1253-4563-A8C1-B255E619A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6520"/>
            <a:ext cx="1987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6520"/>
            <a:ext cx="1987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6520"/>
            <a:ext cx="1987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2789-D12F-4E66-ADCD-F18DA37E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CD3-A406-4E0D-AC39-641E91F1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9D41-D120-47B8-98B0-6DC5106E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790-2D4D-462E-A5A9-706B1E24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ECD-CEA1-4A50-BC14-8051AE68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DD46-DF06-4C62-AE96-7CE31BD67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652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949-7637-4572-9C6B-94FF8BEA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652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F47-FA9F-4621-BD60-631546A56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6520"/>
            <a:ext cx="6172200" cy="311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70C4-0A7C-4A0E-9E42-7E4FEB0A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8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marL="357120" indent="-35712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77960" indent="-29844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97000" indent="-239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74720" indent="-2379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54240" indent="-23796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1600"/>
            <a:ext cx="1600200" cy="687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1600"/>
            <a:ext cx="2171520" cy="687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1600"/>
            <a:ext cx="1600200" cy="687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D902-2AC7-463B-8F26-BB813D580124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7240" y="109440"/>
            <a:ext cx="5092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宮下（副キャプテ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a_miyashita_01"/>
          <p:cNvPicPr/>
          <p:nvPr/>
        </p:nvPicPr>
        <p:blipFill>
          <a:blip r:embed="rId1"/>
          <a:srcRect l="0" t="0" r="32936" b="0"/>
          <a:stretch/>
        </p:blipFill>
        <p:spPr>
          <a:xfrm>
            <a:off x="0" y="1833480"/>
            <a:ext cx="68580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57240" y="109440"/>
            <a:ext cx="5092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高橋（キャプテ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a_takahashi"/>
          <p:cNvPicPr/>
          <p:nvPr/>
        </p:nvPicPr>
        <p:blipFill>
          <a:blip r:embed="rId1"/>
          <a:srcRect l="39383" t="0" r="0" b="0"/>
          <a:stretch/>
        </p:blipFill>
        <p:spPr>
          <a:xfrm>
            <a:off x="0" y="1852560"/>
            <a:ext cx="68580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7240" y="109440"/>
            <a:ext cx="5092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小林先輩（社会人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a_kobayashi"/>
          <p:cNvPicPr/>
          <p:nvPr/>
        </p:nvPicPr>
        <p:blipFill>
          <a:blip r:embed="rId1"/>
          <a:srcRect l="10335" t="0" r="21401" b="0"/>
          <a:stretch/>
        </p:blipFill>
        <p:spPr>
          <a:xfrm>
            <a:off x="0" y="1887480"/>
            <a:ext cx="68580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7240" y="109440"/>
            <a:ext cx="509256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吉田先輩（大学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a_yoshida_01"/>
          <p:cNvPicPr/>
          <p:nvPr/>
        </p:nvPicPr>
        <p:blipFill>
          <a:blip r:embed="rId1"/>
          <a:srcRect l="22730" t="0" r="17879" b="0"/>
          <a:stretch/>
        </p:blipFill>
        <p:spPr>
          <a:xfrm>
            <a:off x="0" y="1944720"/>
            <a:ext cx="68580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3:17:09Z</dcterms:created>
  <dc:creator>kouroji</dc:creator>
  <dc:description/>
  <dc:language>en-US</dc:language>
  <cp:lastModifiedBy>MURC2</cp:lastModifiedBy>
  <dcterms:modified xsi:type="dcterms:W3CDTF">2011-04-15T03:37:39Z</dcterms:modified>
  <cp:revision>20</cp:revision>
  <dc:subject/>
  <dc:title>スライド 1</dc:title>
</cp:coreProperties>
</file>