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829A-284F-4D62-B412-AAEC0D9CA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26CF-2E4E-4EDD-A13C-78889A46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FA2D-A47C-4855-A91D-D45F202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C7E-3A81-45F4-9A5D-6C7D4A806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B2C-A102-46EE-8474-8FB40D25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4D7F-B67D-4C2A-BB63-897A8C6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DFBA-D832-4306-8403-AE045FF1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12BB-EB1C-4E29-825A-262C65CCD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B7A6-CC80-4EB2-A2DA-E9D64540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E8E-002B-456B-ACC8-A26C7EB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D6C5-A977-4E6A-B131-31BAA15C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827-6D21-4C44-ABB6-9321ABAB8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ACF2-A984-407E-A61A-B351429EA9EB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28320" y="701280"/>
            <a:ext cx="5349960" cy="607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無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―――――――――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小林先輩初めまし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西高バスケ部の後輩です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小林先輩、高校の時に全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行ってますよね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暇だったら一度、練習に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来てもらえませんか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お待ちしてます</a:t>
            </a:r>
            <a:r>
              <a:rPr b="0" lang="ja-JP" sz="3400" spc="-1" strike="noStrike">
                <a:solidFill>
                  <a:srgbClr val="bbe0e3"/>
                </a:solidFill>
                <a:latin typeface="Arial"/>
              </a:rPr>
              <a:t>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_011"/>
          <p:cNvPicPr/>
          <p:nvPr/>
        </p:nvPicPr>
        <p:blipFill>
          <a:blip r:embed="rId1"/>
          <a:srcRect l="43011" t="50121" r="54440" b="43944"/>
          <a:stretch/>
        </p:blipFill>
        <p:spPr>
          <a:xfrm>
            <a:off x="4284720" y="1987560"/>
            <a:ext cx="341280" cy="411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a_011"/>
          <p:cNvPicPr/>
          <p:nvPr/>
        </p:nvPicPr>
        <p:blipFill>
          <a:blip r:embed="rId2"/>
          <a:srcRect l="50189" t="79850" r="46587" b="13170"/>
          <a:stretch/>
        </p:blipFill>
        <p:spPr>
          <a:xfrm>
            <a:off x="3728880" y="3736800"/>
            <a:ext cx="366840" cy="414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送信メール（宮下くんが送ったメール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8320" y="701280"/>
            <a:ext cx="5349960" cy="6070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無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――――――――――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小林先輩初めまし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西高バスケ部の後輩です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小林先輩、高校の時に全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行ってますよね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暇だったら一度、練習に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来てもらえませんか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"/>
              </a:rPr>
              <a:t>お待ちしてます</a:t>
            </a:r>
            <a:r>
              <a:rPr b="0" lang="ja-JP" sz="3400" spc="-1" strike="noStrike">
                <a:solidFill>
                  <a:srgbClr val="bbe0e3"/>
                </a:solidFill>
                <a:latin typeface="Arial"/>
              </a:rPr>
              <a:t>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a_011"/>
          <p:cNvPicPr/>
          <p:nvPr/>
        </p:nvPicPr>
        <p:blipFill>
          <a:blip r:embed="rId1"/>
          <a:srcRect l="43011" t="50121" r="54440" b="43944"/>
          <a:stretch/>
        </p:blipFill>
        <p:spPr>
          <a:xfrm>
            <a:off x="4284720" y="1987560"/>
            <a:ext cx="341280" cy="411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a_011"/>
          <p:cNvPicPr/>
          <p:nvPr/>
        </p:nvPicPr>
        <p:blipFill>
          <a:blip r:embed="rId2"/>
          <a:srcRect l="50189" t="79850" r="46587" b="13170"/>
          <a:stretch/>
        </p:blipFill>
        <p:spPr>
          <a:xfrm>
            <a:off x="3728880" y="3736800"/>
            <a:ext cx="366840" cy="414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6391800" y="855720"/>
            <a:ext cx="2164320" cy="358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西高バスケ部練習参加のお願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4570560" y="1700280"/>
            <a:ext cx="5273640" cy="3582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西高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の吉田先輩に連絡先をお伺いしました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53360" y="2562120"/>
            <a:ext cx="2309400" cy="64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西高バスケ部２年副キャプテンの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宮下と申します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7190640" y="4370400"/>
            <a:ext cx="247320" cy="64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突然のお願いで恐縮ですが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もしご都合がよろしければ、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 rot="18900000">
            <a:off x="0" y="1657080"/>
            <a:ext cx="495360" cy="457200"/>
          </a:xfrm>
          <a:prstGeom prst="plus">
            <a:avLst>
              <a:gd name="adj" fmla="val 399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 rot="18900000">
            <a:off x="0" y="3427200"/>
            <a:ext cx="495360" cy="457200"/>
          </a:xfrm>
          <a:prstGeom prst="plus">
            <a:avLst>
              <a:gd name="adj" fmla="val 3990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5947200" y="5348160"/>
            <a:ext cx="2766240" cy="647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土１０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００からの練習に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ご参加頂けないでしょうか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328680" y="4524480"/>
            <a:ext cx="311940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8"/>
          <p:cNvSpPr/>
          <p:nvPr/>
        </p:nvSpPr>
        <p:spPr>
          <a:xfrm>
            <a:off x="3336840" y="4138560"/>
            <a:ext cx="2395800" cy="385920"/>
          </a:xfrm>
          <a:custGeom>
            <a:avLst/>
            <a:gdLst>
              <a:gd name="textAreaLeft" fmla="*/ 0 w 2395800"/>
              <a:gd name="textAreaRight" fmla="*/ 2396160 w 2395800"/>
              <a:gd name="textAreaTop" fmla="*/ 0 h 385920"/>
              <a:gd name="textAreaBottom" fmla="*/ 386280 h 385920"/>
            </a:gdLst>
            <a:ahLst/>
            <a:rect l="textAreaLeft" t="textAreaTop" r="textAreaRight" b="textAreaBottom"/>
            <a:pathLst>
              <a:path w="1950" h="340">
                <a:moveTo>
                  <a:pt x="0" y="340"/>
                </a:moveTo>
                <a:cubicBezTo>
                  <a:pt x="381" y="193"/>
                  <a:pt x="763" y="46"/>
                  <a:pt x="1088" y="23"/>
                </a:cubicBezTo>
                <a:cubicBezTo>
                  <a:pt x="1413" y="0"/>
                  <a:pt x="1681" y="102"/>
                  <a:pt x="1950" y="204"/>
                </a:cubicBezTo>
              </a:path>
            </a:pathLst>
          </a:custGeom>
          <a:noFill/>
          <a:ln w="3492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9"/>
          <p:cNvSpPr/>
          <p:nvPr/>
        </p:nvSpPr>
        <p:spPr>
          <a:xfrm>
            <a:off x="3452760" y="4524480"/>
            <a:ext cx="144468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328680" y="5089680"/>
            <a:ext cx="4568760" cy="515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4842000" y="5089680"/>
            <a:ext cx="836640" cy="361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3"/>
          <p:cNvSpPr/>
          <p:nvPr/>
        </p:nvSpPr>
        <p:spPr>
          <a:xfrm>
            <a:off x="328680" y="2612880"/>
            <a:ext cx="5070240" cy="5162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4"/>
          <p:cNvSpPr/>
          <p:nvPr/>
        </p:nvSpPr>
        <p:spPr>
          <a:xfrm>
            <a:off x="5398920" y="2870280"/>
            <a:ext cx="446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5"/>
          <p:cNvSpPr/>
          <p:nvPr/>
        </p:nvSpPr>
        <p:spPr>
          <a:xfrm>
            <a:off x="2389320" y="1854360"/>
            <a:ext cx="21733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6"/>
          <p:cNvSpPr/>
          <p:nvPr/>
        </p:nvSpPr>
        <p:spPr>
          <a:xfrm>
            <a:off x="1387440" y="1009800"/>
            <a:ext cx="4291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8400" rIns="68400" tIns="-34200" bIns="-342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>
            <a:off x="384120" y="754200"/>
            <a:ext cx="1003320" cy="51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9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見本メール（添削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見本メ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A001"/>
          <p:cNvPicPr/>
          <p:nvPr/>
        </p:nvPicPr>
        <p:blipFill>
          <a:blip r:embed="rId1"/>
          <a:stretch/>
        </p:blipFill>
        <p:spPr>
          <a:xfrm>
            <a:off x="0" y="857160"/>
            <a:ext cx="9906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見本メール（続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a_003"/>
          <p:cNvPicPr/>
          <p:nvPr/>
        </p:nvPicPr>
        <p:blipFill>
          <a:blip r:embed="rId1"/>
          <a:stretch/>
        </p:blipFill>
        <p:spPr>
          <a:xfrm>
            <a:off x="0" y="857160"/>
            <a:ext cx="9906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3:17:09Z</dcterms:created>
  <dc:creator>kouroji</dc:creator>
  <dc:description/>
  <dc:language>en-US</dc:language>
  <cp:lastModifiedBy>MURC2</cp:lastModifiedBy>
  <dcterms:modified xsi:type="dcterms:W3CDTF">2011-04-15T05:43:44Z</dcterms:modified>
  <cp:revision>26</cp:revision>
  <dc:subject/>
  <dc:title>スライド 1</dc:title>
</cp:coreProperties>
</file>